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427-9269-493B-8758-3EA0F1C8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0B6-22F6-4F20-AC45-E9BB29D2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3DE-166A-4385-80A2-60DF400C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F5F-DB08-4EB3-9DDF-D2C97388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CA1-773B-4370-BEBE-A50C2B8E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5C4-7817-4B9F-8690-D7E8C7F3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67C-C253-44AE-B82D-18D1D324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58D-6D40-4B0F-9359-2EC140F2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B4E-F502-4E2C-BC5F-1C863F1B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E36-7C48-48D1-8628-432156BF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554-FA82-4A7A-8EB7-2216B61F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419-A59D-4E33-A56D-4CCDCFA8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49E7-D3A1-4467-8A77-CB8C74865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58560" y="2781000"/>
            <a:ext cx="6707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rea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și administrare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ui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Propunere pentru un nou subi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481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ubli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6553080" cy="524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292720" y="4221000"/>
            <a:ext cx="2519280" cy="935280"/>
          </a:xfrm>
          <a:prstGeom prst="wedgeRoundRectCallout">
            <a:avLst>
              <a:gd name="adj1" fmla="val -12824"/>
              <a:gd name="adj2" fmla="val 1430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ubl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agina d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6264360" cy="5011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7280" y="4797360"/>
            <a:ext cx="1944720" cy="863640"/>
          </a:xfrm>
          <a:prstGeom prst="wedgeRoundRectCallout">
            <a:avLst>
              <a:gd name="adj1" fmla="val 80120"/>
              <a:gd name="adj2" fmla="val 21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biectul de disc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reare cont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6408720" cy="5127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2781360"/>
            <a:ext cx="1871640" cy="792000"/>
          </a:xfrm>
          <a:prstGeom prst="wedgeRoundRectCallout">
            <a:avLst>
              <a:gd name="adj1" fmla="val 95037"/>
              <a:gd name="adj2" fmla="val -2635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reare conturi pentru memb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reare cont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6192720" cy="4952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84360" y="3573360"/>
            <a:ext cx="1871640" cy="935280"/>
          </a:xfrm>
          <a:prstGeom prst="wedgeRoundRectCallout">
            <a:avLst>
              <a:gd name="adj1" fmla="val 109712"/>
              <a:gd name="adj2" fmla="val -2775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reare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reare cont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6480000" cy="5184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24000" y="4149720"/>
            <a:ext cx="1943280" cy="1655640"/>
          </a:xfrm>
          <a:prstGeom prst="wedgeRoundRectCallout">
            <a:avLst>
              <a:gd name="adj1" fmla="val 91750"/>
              <a:gd name="adj2" fmla="val -31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ifaţi pentru ca membrul sa primeasca datele de acces pe 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n exemp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5977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agina unui memb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19280" y="1155600"/>
            <a:ext cx="71280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923760"/>
            <a:ext cx="7417080" cy="593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64000" y="18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765000"/>
            <a:ext cx="2592360" cy="1152720"/>
          </a:xfrm>
          <a:prstGeom prst="wedgeRoundRectCallout">
            <a:avLst>
              <a:gd name="adj1" fmla="val -84967"/>
              <a:gd name="adj2" fmla="val 2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ccesati pagina www.21class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0000" y="2852640"/>
            <a:ext cx="2376720" cy="1440000"/>
          </a:xfrm>
          <a:prstGeom prst="wedgeRoundRectCallout">
            <a:avLst>
              <a:gd name="adj1" fmla="val -21277"/>
              <a:gd name="adj2" fmla="val -73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pasati butonul Sign up for free pentru a crea propriul 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Înregistr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6840720" cy="54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3213000"/>
            <a:ext cx="1655640" cy="863640"/>
          </a:xfrm>
          <a:prstGeom prst="wedgeRoundRectCallout">
            <a:avLst>
              <a:gd name="adj1" fmla="val 92759"/>
              <a:gd name="adj2" fmla="val -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Completaţi datele cer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437000"/>
            <a:ext cx="1655640" cy="936720"/>
          </a:xfrm>
          <a:prstGeom prst="wedgeRoundRectCallout">
            <a:avLst>
              <a:gd name="adj1" fmla="val 103018"/>
              <a:gd name="adj2" fmla="val -1069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Numele blog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202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Înregistrar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129440" cy="57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5229360"/>
            <a:ext cx="1368360" cy="504720"/>
          </a:xfrm>
          <a:prstGeom prst="wedgeRoundRectCallout">
            <a:avLst>
              <a:gd name="adj1" fmla="val 106379"/>
              <a:gd name="adj2" fmla="val -4056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lectaţ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365720"/>
            <a:ext cx="2016000" cy="647640"/>
          </a:xfrm>
          <a:prstGeom prst="wedgeRoundRectCallout">
            <a:avLst>
              <a:gd name="adj1" fmla="val 88111"/>
              <a:gd name="adj2" fmla="val -39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troduceti codul de secur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805360"/>
            <a:ext cx="2305080" cy="649440"/>
          </a:xfrm>
          <a:prstGeom prst="wedgeRoundRectCallout">
            <a:avLst>
              <a:gd name="adj1" fmla="val 100759"/>
              <a:gd name="adj2" fmla="val -6368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pasati pentru a merge mai de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555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Înregistrare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129440" cy="5703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2421000"/>
            <a:ext cx="1584360" cy="936720"/>
          </a:xfrm>
          <a:prstGeom prst="wedgeRoundRectCallout">
            <a:avLst>
              <a:gd name="adj1" fmla="val 68435"/>
              <a:gd name="adj2" fmla="val -367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firmarea înregistră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Înregistrar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5084640"/>
            <a:ext cx="1800000" cy="792360"/>
          </a:xfrm>
          <a:prstGeom prst="wedgeRoundRectCallout">
            <a:avLst>
              <a:gd name="adj1" fmla="val 88888"/>
              <a:gd name="adj2" fmla="val -1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păsaţi pentru contin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Pagina de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12980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ezentare b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24720" cy="5299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8000" y="2492280"/>
            <a:ext cx="1079280" cy="649440"/>
          </a:xfrm>
          <a:prstGeom prst="wedgeRoundRectCallout">
            <a:avLst>
              <a:gd name="adj1" fmla="val 71615"/>
              <a:gd name="adj2" fmla="val -38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gina de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357720"/>
            <a:ext cx="1403280" cy="718920"/>
          </a:xfrm>
          <a:prstGeom prst="wedgeRoundRectCallout">
            <a:avLst>
              <a:gd name="adj1" fmla="val 95134"/>
              <a:gd name="adj2" fmla="val -1482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Gestionare cont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4076640"/>
            <a:ext cx="1763640" cy="720720"/>
          </a:xfrm>
          <a:prstGeom prst="wedgeRoundRectCallout">
            <a:avLst>
              <a:gd name="adj1" fmla="val -4365"/>
              <a:gd name="adj2" fmla="val -25087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rsonalizare 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2781360"/>
            <a:ext cx="1800000" cy="792000"/>
          </a:xfrm>
          <a:prstGeom prst="wedgeRoundRectCallout">
            <a:avLst>
              <a:gd name="adj1" fmla="val -65166"/>
              <a:gd name="adj2" fmla="val -6081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izualizare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0fd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ostarea unui subi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2205000"/>
            <a:ext cx="1584360" cy="647640"/>
          </a:xfrm>
          <a:prstGeom prst="wedgeRoundRectCallout">
            <a:avLst>
              <a:gd name="adj1" fmla="val 79958"/>
              <a:gd name="adj2" fmla="val 58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ditarea unui subi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5:30:10Z</dcterms:created>
  <dc:creator>Emy</dc:creator>
  <dc:description/>
  <dc:language>en-US</dc:language>
  <cp:lastModifiedBy>Emy</cp:lastModifiedBy>
  <dcterms:modified xsi:type="dcterms:W3CDTF">2009-02-01T16:59:23Z</dcterms:modified>
  <cp:revision>5</cp:revision>
  <dc:subject/>
  <dc:title>Tutorial</dc:title>
</cp:coreProperties>
</file>